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FAFE4-0473-41C7-A707-934695042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8FDE2-6637-4ACC-B4AA-BBFC4FE90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DA901-93B9-44A2-A523-D1F08343E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E8CEF-C60F-4D24-A842-1E2D5784A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E4EA7-33D3-4B94-A772-E18A5ACE8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63DE6-BF01-446A-879C-9D50CCA89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3D937-4D82-4882-96EB-1654B2979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041FB-FD5F-4900-AA53-11C05167D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0E7AB-B643-48D3-8964-29B5E1C81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D18C3-6613-41B0-A880-6B42DDFEA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84D24-BA39-4C9F-9CA3-3460A0F8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8B724-284A-4659-AA4B-6F07C36C8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A0699-66B7-4EB3-A6AD-E0976AC7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477BF-5842-4C63-8037-6E08AD0C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F1E7F-D3C8-4C0B-ABB0-59D52B1FE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396A4-BED7-4B61-9E62-67FEEA033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6283B-A7BA-4823-9D3F-401A563A6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F6437-DE90-43D4-98EF-81C6AADF8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3B087-A90B-4576-80FC-16046E5A3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988C5-5519-4275-A90D-6466D4CE9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AE11B-93D9-4089-A9C1-31D5DE11A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282FE-C460-4037-B0F3-D754AB64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6009B-A14F-4B8E-AD15-F4B17FD3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AAB4F-BC70-47B8-A77F-F3DACDEA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F0AAD-831A-48AA-B954-94D26EC7C6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A2CE7-1A12-4FC8-B788-28A8041120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Luxembourg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3" descr="grund-view-from-the-bock"/>
          <p:cNvPicPr/>
          <p:nvPr/>
        </p:nvPicPr>
        <p:blipFill>
          <a:blip r:embed="rId1"/>
          <a:stretch/>
        </p:blipFill>
        <p:spPr>
          <a:xfrm>
            <a:off x="5257800" y="4076640"/>
            <a:ext cx="350532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ve French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orter (Expor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ier (Ste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n (w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re (gla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au (beautifu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steel-cube-by-gus-modern"/>
          <p:cNvPicPr/>
          <p:nvPr/>
        </p:nvPicPr>
        <p:blipFill>
          <a:blip r:embed="rId1"/>
          <a:stretch/>
        </p:blipFill>
        <p:spPr>
          <a:xfrm>
            <a:off x="5562720" y="106668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Red wine can stop you from going deaf, researchers say"/>
          <p:cNvPicPr/>
          <p:nvPr/>
        </p:nvPicPr>
        <p:blipFill>
          <a:blip r:embed="rId2"/>
          <a:stretch/>
        </p:blipFill>
        <p:spPr>
          <a:xfrm rot="8901000">
            <a:off x="4431960" y="4103280"/>
            <a:ext cx="1457280" cy="22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a holid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cension, Whitmonday, Assumption, Easter, Christmas, Grand Duke’s Birth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greet some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entle handsha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 you for watching this present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37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99cc"/>
                                      </p:to>
                                    </p:animClr>
                                    <p:animClr clrSpc="rgb">
                                      <p:cBhvr>
                                        <p:cTn id="37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99cc"/>
                                      </p:to>
                                    </p:animClr>
                                    <p:set>
                                      <p:cBhvr>
                                        <p:cTn id="37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7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Rectangle 4" descr=""/>
          <p:cNvPicPr/>
          <p:nvPr/>
        </p:nvPicPr>
        <p:blipFill>
          <a:blip r:embed="rId1"/>
          <a:stretch/>
        </p:blipFill>
        <p:spPr>
          <a:xfrm>
            <a:off x="523800" y="433440"/>
            <a:ext cx="803448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2" dur="250" autoRev="1" fill="hold"/>
                                        <p:tgtEl>
                                          <p:spTgt spid="1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xembourg is surrounded by France, Germany, and Belgium in Europ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WordArt 7"/>
          <p:cNvSpPr txBox="1"/>
          <p:nvPr/>
        </p:nvSpPr>
        <p:spPr>
          <a:xfrm>
            <a:off x="1295280" y="990720"/>
            <a:ext cx="6400800" cy="1836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4666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ocatio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110" name="Picture 9" descr="Luxembourg_worldareamap"/>
          <p:cNvPicPr/>
          <p:nvPr/>
        </p:nvPicPr>
        <p:blipFill>
          <a:blip r:embed="rId2"/>
          <a:stretch/>
        </p:blipFill>
        <p:spPr>
          <a:xfrm>
            <a:off x="2770200" y="3048120"/>
            <a:ext cx="3498840" cy="3809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3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38 -0.15555 C -0.07205 -0.03912 -0.44271 0.49167 -0.37882 0.6206 C -0.31493 0.74954 0.3118 0.73495 0.37448 0.61852 C 0.43715 0.50208 0.06076 0.05116 -0.00295 -0.07824 C -0.06667 -0.20764 0.0533 -0.27199 -0.00938 -0.15555 Z">
                                      <p:cBhvr>
                                        <p:cTn id="35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4"/>
          <p:cNvSpPr txBox="1"/>
          <p:nvPr/>
        </p:nvSpPr>
        <p:spPr>
          <a:xfrm>
            <a:off x="304920" y="609480"/>
            <a:ext cx="8534160" cy="14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3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entury Gothic"/>
              </a:rPr>
              <a:t>Did you know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entury Gothic"/>
              <a:ea typeface="Century Gothic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53416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uisine of Luxembourg is influenced by French and Germ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xembourg is a hub of travel for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men often wear dre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 wear suits and hats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" descr="train300,0"/>
          <p:cNvPicPr/>
          <p:nvPr/>
        </p:nvPicPr>
        <p:blipFill>
          <a:blip r:embed="rId1"/>
          <a:stretch/>
        </p:blipFill>
        <p:spPr>
          <a:xfrm>
            <a:off x="6172200" y="3429000"/>
            <a:ext cx="20685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1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 0.04533 0.011 0.08667 0.028 0.11333 C 0.028 0.11467 0.055 0.15067 0.055 0.14933 C 0.07 0.16933 0.079 0.19733 0.079 0.22667 C 0.079 0.28533 0.044 0.332 0 0.33333 C -0.044 0.332 -0.079 0.28533 -0.079 0.22667 C -0.079 0.19733 -0.07 0.16933 -0.055 0.14933 C -0.055 0.15067 -0.028 0.11467 -0.028 0.11333 C -0.011 0.08667 -0.001 0.04533 0 0 Z">
                                      <p:cBhvr>
                                        <p:cTn id="46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1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 0.04533 0.011 0.08667 0.028 0.11333 C 0.028 0.11467 0.055 0.15067 0.055 0.14933 C 0.07 0.16933 0.079 0.19733 0.079 0.22667 C 0.079 0.28533 0.044 0.332 0 0.33333 C -0.044 0.332 -0.079 0.28533 -0.079 0.22667 C -0.079 0.19733 -0.07 0.16933 -0.055 0.14933 C -0.055 0.15067 -0.028 0.11467 -0.028 0.11333 C -0.011 0.08667 -0.001 0.04533 0 0 Z">
                                      <p:cBhvr>
                                        <p:cTn id="50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1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 0.04533 0.011 0.08667 0.028 0.11333 C 0.028 0.11467 0.055 0.15067 0.055 0.14933 C 0.07 0.16933 0.079 0.19733 0.079 0.22667 C 0.079 0.28533 0.044 0.332 0 0.33333 C -0.044 0.332 -0.079 0.28533 -0.079 0.22667 C -0.079 0.19733 -0.07 0.16933 -0.055 0.14933 C -0.055 0.15067 -0.028 0.11467 -0.028 0.11333 C -0.011 0.08667 -0.001 0.04533 0 0 Z">
                                      <p:cBhvr>
                                        <p:cTn id="54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1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 0.04533 0.011 0.08667 0.028 0.11333 C 0.028 0.11467 0.055 0.15067 0.055 0.14933 C 0.07 0.16933 0.079 0.19733 0.079 0.22667 C 0.079 0.28533 0.044 0.332 0 0.33333 C -0.044 0.332 -0.079 0.28533 -0.079 0.22667 C -0.079 0.19733 -0.07 0.16933 -0.055 0.14933 C -0.055 0.15067 -0.028 0.11467 -0.028 0.11333 C -0.011 0.08667 -0.001 0.04533 0 0 Z">
                                      <p:cBhvr>
                                        <p:cTn id="58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ntry and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b701"/>
                </a:solidFill>
                <a:latin typeface="Arial"/>
              </a:rPr>
              <a:t>Capital: Luxembou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b701"/>
                </a:solidFill>
                <a:latin typeface="Arial"/>
              </a:rPr>
              <a:t>Population: 474,4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b701"/>
                </a:solidFill>
                <a:latin typeface="Arial"/>
              </a:rPr>
              <a:t>Real GDP: $69,96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b701"/>
                </a:solidFill>
                <a:latin typeface="Arial"/>
              </a:rPr>
              <a:t>If it is noon here, then it would be about nine PM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03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language: Luxembourg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Religion: Roman Catholic 87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ave strong national pr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knuedler"/>
          <p:cNvPicPr/>
          <p:nvPr/>
        </p:nvPicPr>
        <p:blipFill>
          <a:blip r:embed="rId1"/>
          <a:stretch/>
        </p:blipFill>
        <p:spPr>
          <a:xfrm>
            <a:off x="6705720" y="3276720"/>
            <a:ext cx="2158920" cy="33145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8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stoms &amp; Courtes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greet one other by a gentle handsha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wing gum while talking is very impol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xembourgers may have coffee around 4:00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23037371"/>
          <p:cNvPicPr/>
          <p:nvPr/>
        </p:nvPicPr>
        <p:blipFill>
          <a:blip r:embed="rId1"/>
          <a:stretch/>
        </p:blipFill>
        <p:spPr>
          <a:xfrm>
            <a:off x="5867280" y="3505320"/>
            <a:ext cx="243864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ndparents sometimes care for the kids when the parents are at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dating starts at age 15 and only civil marriages in a church are recognized by la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ack Pudding is, a disgusting Christmas eve meal made of lots of gross pig stuf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WordArt 4"/>
          <p:cNvSpPr txBox="1"/>
          <p:nvPr/>
        </p:nvSpPr>
        <p:spPr>
          <a:xfrm>
            <a:off x="2590920" y="304920"/>
            <a:ext cx="42670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8016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Century Gothic"/>
              </a:rPr>
              <a:t>lifestyle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Century Gothic"/>
              <a:ea typeface="Century Gothic"/>
            </a:endParaRPr>
          </a:p>
        </p:txBody>
      </p:sp>
      <p:pic>
        <p:nvPicPr>
          <p:cNvPr id="126" name="Picture 5" descr="blackpudding460"/>
          <p:cNvPicPr/>
          <p:nvPr/>
        </p:nvPicPr>
        <p:blipFill>
          <a:blip r:embed="rId1"/>
          <a:stretch/>
        </p:blipFill>
        <p:spPr>
          <a:xfrm>
            <a:off x="4495680" y="4815000"/>
            <a:ext cx="3276720" cy="19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250" autoRev="1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3" dur="250" autoRev="1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8" dur="250" autoRev="1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Sport: Soc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lidays: Grand Duke’s Birthday (on National Day, 23 June), Ascension, Whitmonday, Assumption (August 15), Easter, Christmas.  Christmas and Easter are most import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WordArt 5"/>
          <p:cNvSpPr txBox="1"/>
          <p:nvPr/>
        </p:nvSpPr>
        <p:spPr>
          <a:xfrm>
            <a:off x="2743200" y="533520"/>
            <a:ext cx="4114800" cy="20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02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Century Gothic"/>
              </a:rPr>
              <a:t>lifesty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Century Gothic"/>
              <a:ea typeface="Century Gothic"/>
            </a:endParaRPr>
          </a:p>
        </p:txBody>
      </p:sp>
      <p:pic>
        <p:nvPicPr>
          <p:cNvPr id="130" name="Picture 6" descr="Cross-Silhouetted-Against-Sky-Fort-Cachacrou-Soufriere-Dominica-Photographic-Print-C12677624"/>
          <p:cNvPicPr/>
          <p:nvPr/>
        </p:nvPicPr>
        <p:blipFill>
          <a:blip r:embed="rId1"/>
          <a:stretch/>
        </p:blipFill>
        <p:spPr>
          <a:xfrm>
            <a:off x="4572000" y="4572000"/>
            <a:ext cx="171612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xembourg has a constitutional monarchy government ruled by the Grand Duch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have Primary School for kids 6 years old and public and private schools, colleges, and institutions for oth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ransportation and communication is modern, efficient, and well maintai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Williamsburg-406653"/>
          <p:cNvPicPr/>
          <p:nvPr/>
        </p:nvPicPr>
        <p:blipFill>
          <a:blip r:embed="rId1"/>
          <a:stretch/>
        </p:blipFill>
        <p:spPr>
          <a:xfrm>
            <a:off x="5791320" y="228600"/>
            <a:ext cx="251460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7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8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8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8:53:17Z</dcterms:created>
  <dc:creator>CVJH-LAB</dc:creator>
  <dc:description/>
  <dc:language>en-US</dc:language>
  <cp:lastModifiedBy>nield411</cp:lastModifiedBy>
  <dcterms:modified xsi:type="dcterms:W3CDTF">2008-01-12T00:28:15Z</dcterms:modified>
  <cp:revision>32</cp:revision>
  <dc:subject/>
  <dc:title>Luxembourg</dc:title>
</cp:coreProperties>
</file>